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gif" ContentType="image/gif"/>
  <Override PartName="/ppt/media/image10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5CB-5FDC-447D-A6ED-40E9D122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54D-5D3A-4DEE-A00F-814CA0C7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63959-4AA8-4187-BCB4-D7BE37BD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12F6F-B07A-4EA4-B7C1-B0808FD9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F0925-0B75-46C6-932E-51E5B65D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C2D21-3043-40ED-A922-31545A1F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DC40D-B650-4F41-B0A3-C59E423B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72E60-147D-4160-8AFD-B0946A39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74816-D0A9-4C19-8E08-6F967B01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F64DF-467C-4540-A9AF-2258F93B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4EA45-C7BF-41F0-BC79-2E6B4536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285FA-0878-4795-889E-DD200626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B87-609B-48FA-ADCD-BF9C074D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F0ECF-EDB2-43D1-A795-AB3081E1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48EB1-18E6-45A5-8B5A-6933C181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B4184-F4FF-4E6F-997A-0D9D0AD2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099E7-1A6F-4DCE-8109-C67CC7F2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4C63A-90B6-449D-B7BA-8ABF6F15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12714-7CB6-4FAC-A68D-38A47AC1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6DD2E-8913-4A0D-8FEC-39B26EED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9A1AF-329A-49A0-8984-5EDEA607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09401-6545-44A8-AE9D-1431CE61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24A9B-7723-406E-969D-8814CC7E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E745-708D-4F59-9319-AF15129A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753BB-B002-48AA-9428-20425E4C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6CB6C-D84C-4CB5-B365-13D9CAF6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C758A-CE9C-4501-B338-B11EC213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4BA38-19D6-4116-AABE-98B73F5F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A19CF-6F9C-4F51-9B47-1B240E03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9B386-6FD0-4C50-8DB5-8F196FE7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2C5B0-62A6-4EF2-BD0D-825BCC3F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D9213-9742-4E7D-8865-9F31663C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9674C-5852-4391-9006-6104EFB3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23690-114B-4A8B-82DD-37573CF4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8FC8-CD72-47CA-9E46-86B10D44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73C26-062C-4541-86C9-0D0D9715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F159C-B4F8-4D9A-ADB9-9423CF1D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0E74F-7EDD-40BA-B96B-6F28E7C6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5C347-F5A3-47E7-9139-10F907FB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05CE6-3300-4034-90DB-99F1799D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7A4B5-41BC-4E01-867F-9730F514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796BA-9BDD-47EF-9E4F-DA2A0B87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46FBA-5D73-4C72-80EC-F0DB9BB9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C8083-07B3-4551-8487-24286926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D259E-0DFA-4632-9BF2-BC3500D5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1ABD-C829-47CC-BA94-522C9CB1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A627C-12C7-4B65-9949-9B14BCBD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5E9A3-1997-4431-B1A2-BE6DE740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B28D4-57D9-4597-A9C4-6A1C6848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F12D3-B262-4E2C-AF65-BADA9C2A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2FFDF-113D-4B9A-AD26-B4E80A37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4476-8C78-4953-B874-46D44426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A87B-7501-4CC3-AB94-FF7B5D3D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8896-881D-41B2-B92E-1ABC1EBB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1592-6746-45F8-9C12-7D6AF410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9534-1C49-4BC3-A364-A7BF208E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B5F-E886-4DD1-B390-B9498F24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7398-56C4-4F14-817B-EF841C30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9041-4D24-4CE4-A94C-83E326C6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1211-323C-4401-A557-AE4BF9D9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2B09-5920-4777-B883-7B789E3F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1EAA-E151-4296-838B-E1A8575F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EADF5-365F-4A1C-B78B-2726AD95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A136-612E-4399-947D-99BA2AC1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9F6AB-DCB6-4A17-97AA-95395CB5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75198-5E86-4041-A3FF-272E6094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9FDD4-0FCA-4406-92AD-4E9DE58C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222-32A4-4A19-9EA8-578B952C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90B6-095C-4629-8032-279859C2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5FCEB-0ABE-4342-A785-C9674FDE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C7E8-7D82-4354-B187-5E32305A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30F45-9D1D-420E-967F-36E4ED09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3E3CD-B7CB-48FD-8D13-CEC847AA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EA95-0D32-4AEB-95D1-B34F6FC4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3A607-5319-460D-8223-F6267454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01EE6-D458-4204-8855-E2566575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AA73E-C4B5-4342-8C83-091B520F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E52E1-0E10-4E19-92C9-A1188C6D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63D-374E-467F-8231-CED97AB1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D78C4-C9EE-4AED-A42B-0ADCA772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FBE19-96D5-48B4-BDCF-9F165921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53284-124F-46FF-9807-9EF6A08B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CBE8-800D-4E54-8295-748AF174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1447B-752F-42AE-A8B7-CCB9A00B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0E185-C103-4047-8F63-E48D03E0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147B6-5A4D-4896-AE32-ECF22014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3CD27-D7E1-433D-BD30-D399925B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53F73-58E8-4DC2-A65A-6F0362CD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EE382-4344-4914-8680-19C27C1C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018-389B-43D1-B2EA-297CB049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712DC-A13C-45F1-9F71-0E9689DE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D1B0-F449-477F-ABC5-EDB2D672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BF30-7515-4C94-B5C5-4F7C08D0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5947B-DCE8-4182-B776-CC1FE39E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A548C-6B69-4D16-B385-54F41DD8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39F0E-4021-46FD-9A2D-A96CA174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E21E8-452A-44FD-95A6-EB6D8F29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362CE-4E29-4856-B64D-43DF22A1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B8E3F-8D43-4E42-86B9-F7425703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BB835-E7CF-40CA-8CC2-0E09B51A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E09-B1F3-4357-89F4-E2F7632B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BFB95-690F-4305-88BA-486A21EA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8B25E-6CD9-4A97-9D40-250D5675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8E1D1-098B-4F91-89BE-0DC63D82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B8697-0941-48FF-A1DE-A421C084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AFC35-FD36-443B-A026-F4272334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668C5-8725-482C-9CDF-916A345E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637DA-0C27-4229-B7C7-010AF25B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9A3B1-7863-4517-A546-27FE1426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60BC9-B280-4121-A8A9-AA3EFE5B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716BF-C59C-4248-B3B1-F138C8CD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83C-9AB1-43C1-A991-DD191F69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E913A-23E4-4779-9BDF-2E356258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6D8F9-D7F2-4ED1-BE52-A7C59DA9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2707E-32E4-46AE-9B88-50B1CB29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6CAAB-0EAA-4FA1-9A58-E2FD9DD7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87E92-344A-4D4E-9316-D04D6BB4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E1DEB-1982-4D0C-ACFD-D1D3C923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41CCF-F75B-4FD8-99F9-41C72489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54279-BA29-4B3E-AC0D-B489E4DA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3D796-8D7B-476C-ABD1-5EB821DC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68C8F-0A06-406F-9DFC-06001B11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760-6E6A-4DCC-B405-328166F8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8A430-8B16-43D2-8F60-E9BE9D51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0833F-E765-4562-BA86-5A72AB52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F71C7-B585-4F15-9D4D-C146D939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BB0F8-5D79-4BBA-81F0-FB8C8438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CCEC9-DE58-4354-B572-B73A3564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6187C-7471-4C03-8277-5C18CC3D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45205-BA7B-4E9D-8188-C9E6A638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9A019-3043-4801-BB40-609B3555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5AEAA-973F-49A0-88B6-73D88C0B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20890-7619-4971-8396-45471292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ECD8-E806-403C-99C4-91A6BB4C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80470-0E13-4D41-B977-F9CA5AD3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31A36-4A96-4E1A-97F6-EA242D38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18C02-5F58-42F4-A317-0E58E1DF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99169-337B-4B0D-ACD9-C7358818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13E69-6072-4EB4-AC91-91EA1A45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59C8A-C577-4678-ADDB-79598490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4A260-A750-4F0B-A73D-27F65AD8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826E4-AE16-4052-85F1-96F9FA85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20947-60A0-4816-B29D-694A78B5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20DD3-7C29-45F1-A0DD-2D30B46D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5E3A-143C-4BFA-BB06-9CF289F252B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9A84-4DC0-45E9-B148-D98270356C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3DA0-C560-4311-998B-4F1A68A0FB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4EC6-FD30-4D56-987B-6527934E20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AD99-6ABB-4059-AF38-A24546FCA8D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BD6A-969A-4408-8110-22EFA98C74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356E-8228-40F9-A7F5-65F5A9C808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6A10-EA77-4414-9DBE-A7D4F18C11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5617-FB4F-471E-B219-DBA067D347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2EA5-E811-44F7-AD34-DF9FA52D6A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72E3-0FEB-458B-BE42-030A576A58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EF65-6BD3-47B1-A4AD-33DBC48C54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绝美的景色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  <a:ea typeface="华文行楷"/>
              </a:rPr>
              <a:t>赏月话名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1116000" y="414972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请你根据下列图片中月亮的形状，说说古人曾经给了它们怎样的名称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正音、解词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0520" y="1752480"/>
            <a:ext cx="860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觑（    ） 倏（     ） 袅（     ） 锨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糙（    ） 掬（     ） 酥（     ） 偎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款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面相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袅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争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116000" y="1700280"/>
            <a:ext cx="88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黑体"/>
              </a:rPr>
              <a:t>q</a:t>
            </a: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Arial"/>
              </a:rPr>
              <a:t>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3059280" y="170028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黑体"/>
              </a:rPr>
              <a:t>shū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380360" y="162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黑体"/>
              </a:rPr>
              <a:t>xiā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148360" y="17002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黑体"/>
              </a:rPr>
              <a:t>niǎo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2276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黑体"/>
              </a:rPr>
              <a:t>cāo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3059280" y="227664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黑体"/>
              </a:rPr>
              <a:t>jū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5219640" y="2276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黑体"/>
              </a:rPr>
              <a:t>sū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7380360" y="227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黑体"/>
              </a:rPr>
              <a:t>wēi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1600200" y="27432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3f17e7"/>
                </a:solidFill>
                <a:uFillTx/>
                <a:latin typeface="黑体"/>
                <a:ea typeface="黑体"/>
              </a:rPr>
              <a:t>缓慢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2133720" y="3352680"/>
            <a:ext cx="63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3f17e7"/>
                </a:solidFill>
                <a:uFillTx/>
                <a:latin typeface="黑体"/>
                <a:ea typeface="黑体"/>
              </a:rPr>
              <a:t>你看我，我看你，形容大家因惊讶而互相望着，都不说话。觑：看，瞧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1371600" y="4343400"/>
            <a:ext cx="47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3f17e7"/>
                </a:solidFill>
                <a:uFillTx/>
                <a:latin typeface="黑体"/>
                <a:ea typeface="黑体"/>
              </a:rPr>
              <a:t>形容烟气缭绕上升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1523880" y="4876920"/>
            <a:ext cx="612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3f17e7"/>
                </a:solidFill>
                <a:uFillTx/>
                <a:latin typeface="黑体"/>
                <a:ea typeface="黑体"/>
              </a:rPr>
              <a:t>争论中各持己见，不肯相让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68000" y="1052640"/>
            <a:ext cx="844236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文章写了什么时间、什么地点、什么人的什么事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971640" y="2492280"/>
            <a:ext cx="8172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时间：中秋的夜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地点：中堂里、院子里、院子外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物：奶奶、我和弟弟妹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事情：盼月亮、寻月亮、议月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434240" y="544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文章重点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3203640" y="544500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寻月亮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755640" y="4762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d9d8ec"/>
                </a:solidFill>
                <a:uFillTx/>
                <a:latin typeface="Times New Roman"/>
                <a:ea typeface="华文新魏"/>
              </a:rPr>
              <a:t>纵观全文，孩子们追寻月亮踪迹有哪三个阶段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533520" y="2133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盼月亮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AutoShape 5"/>
          <p:cNvSpPr/>
          <p:nvPr/>
        </p:nvSpPr>
        <p:spPr>
          <a:xfrm flipH="1" rot="16221000">
            <a:off x="4034880" y="1748520"/>
            <a:ext cx="308160" cy="3505320"/>
          </a:xfrm>
          <a:custGeom>
            <a:avLst/>
            <a:gdLst>
              <a:gd name="textAreaLeft" fmla="*/ 196920 w 308160"/>
              <a:gd name="textAreaRight" fmla="*/ 308520 w 30816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7546"/>
                </a:lnTo>
                <a:cubicBezTo>
                  <a:pt x="10800" y="8446"/>
                  <a:pt x="5400" y="9345"/>
                  <a:pt x="0" y="9345"/>
                </a:cubicBezTo>
                <a:cubicBezTo>
                  <a:pt x="5400" y="9345"/>
                  <a:pt x="10800" y="10245"/>
                  <a:pt x="10800" y="11144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1847520" y="3809880"/>
            <a:ext cx="152100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院中望月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2899800" y="3809880"/>
            <a:ext cx="139932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杯中饮月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3814200" y="3733920"/>
            <a:ext cx="13993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河中寻月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4880880" y="3733920"/>
            <a:ext cx="139932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眼瞳见月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766080" y="34981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镜中看月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Text Box 11"/>
          <p:cNvSpPr/>
          <p:nvPr/>
        </p:nvSpPr>
        <p:spPr>
          <a:xfrm>
            <a:off x="6709680" y="3422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沙滩议月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1066680" y="3276720"/>
            <a:ext cx="287280" cy="504720"/>
          </a:xfrm>
          <a:prstGeom prst="downArrow">
            <a:avLst>
              <a:gd name="adj1" fmla="val 50000"/>
              <a:gd name="adj2" fmla="val 439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AutoShape 13"/>
          <p:cNvSpPr/>
          <p:nvPr/>
        </p:nvSpPr>
        <p:spPr>
          <a:xfrm>
            <a:off x="6858000" y="3200400"/>
            <a:ext cx="287280" cy="504720"/>
          </a:xfrm>
          <a:prstGeom prst="downArrow">
            <a:avLst>
              <a:gd name="adj1" fmla="val 50000"/>
              <a:gd name="adj2" fmla="val 439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91656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—4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3431520" y="2819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—30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3" name="Rectangle 16"/>
          <p:cNvSpPr/>
          <p:nvPr/>
        </p:nvSpPr>
        <p:spPr>
          <a:xfrm>
            <a:off x="6022800" y="274320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1——36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Rectangle 17"/>
          <p:cNvSpPr/>
          <p:nvPr/>
        </p:nvSpPr>
        <p:spPr>
          <a:xfrm>
            <a:off x="2754360" y="2160720"/>
            <a:ext cx="19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800000"/>
                </a:solidFill>
                <a:uFillTx/>
                <a:latin typeface="Arial"/>
                <a:ea typeface="宋体"/>
              </a:rPr>
              <a:t>——</a:t>
            </a:r>
            <a:r>
              <a:rPr b="0" i="1" lang="zh-CN" sz="3600" spc="-1" strike="noStrike" u="sng">
                <a:solidFill>
                  <a:srgbClr val="800000"/>
                </a:solidFill>
                <a:uFillTx/>
                <a:latin typeface="Arial"/>
                <a:ea typeface="宋体"/>
              </a:rPr>
              <a:t>寻月亮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Rectangle 18"/>
          <p:cNvSpPr/>
          <p:nvPr/>
        </p:nvSpPr>
        <p:spPr>
          <a:xfrm>
            <a:off x="5470920" y="2112840"/>
            <a:ext cx="17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800000"/>
                </a:solidFill>
                <a:uFillTx/>
                <a:latin typeface="Arial"/>
                <a:ea typeface="宋体"/>
              </a:rPr>
              <a:t>——</a:t>
            </a:r>
            <a:r>
              <a:rPr b="0" i="1" lang="zh-CN" sz="3200" spc="-1" strike="noStrike" u="sng">
                <a:solidFill>
                  <a:srgbClr val="800000"/>
                </a:solidFill>
                <a:uFillTx/>
                <a:latin typeface="Arial"/>
                <a:ea typeface="宋体"/>
              </a:rPr>
              <a:t>议月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474120" y="3124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思路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626400" y="5943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线索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Text Box 21"/>
          <p:cNvSpPr/>
          <p:nvPr/>
        </p:nvSpPr>
        <p:spPr>
          <a:xfrm>
            <a:off x="2514600" y="59436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月迹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4005360" y="9381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讨论分析本文的思路和行文线索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523520"/>
            <a:ext cx="7650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的孩子们在哪里寻到了月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2871720" y="2765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竹窗帘儿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5239080" y="2819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穿衣镜上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2348640" y="3429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院子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394380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葡萄叶上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5772600" y="3451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瓷花盆上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Rectangle 10"/>
          <p:cNvSpPr/>
          <p:nvPr/>
        </p:nvSpPr>
        <p:spPr>
          <a:xfrm>
            <a:off x="2185920" y="4267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爷爷锹刃上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4177440" y="4267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沙滩上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Rectangle 12"/>
          <p:cNvSpPr/>
          <p:nvPr/>
        </p:nvSpPr>
        <p:spPr>
          <a:xfrm>
            <a:off x="563868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上湾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2221560" y="4846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湾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80880" y="549360"/>
            <a:ext cx="876312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课文开头写“我们这些孩子，什么都觉得新鲜，常常又什么都不觉满足”，而结尾却说“大家都觉得满足了”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468360" y="2421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不满足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-----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2700360" y="242100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孩子的眼睛里， 世界上的万事万物都是那么新鲜好玩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2700360" y="3645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他的心里有无数个为什么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?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611280" y="4581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满  足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-----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2700360" y="4653000"/>
            <a:ext cx="623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cc00ff"/>
                </a:solidFill>
                <a:uFillTx/>
                <a:latin typeface="Arial"/>
                <a:ea typeface="宋体"/>
              </a:rPr>
              <a:t>孩子们在寻月中得到了满足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孩子们由“不满足”到“满足”，经历了哪些心理变化？这变化过程表现了什么？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601880" y="1774440"/>
            <a:ext cx="20350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失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95280" y="17002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镜中月亮由圆而亏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------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4211640" y="2565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羡慕、嫉妒、争执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468360" y="2637000"/>
            <a:ext cx="38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以为月亮仅属三妹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------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4643280" y="393372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越发觉得奇了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 flipV="1" rot="10800000">
            <a:off x="323640" y="3499200"/>
            <a:ext cx="657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奶奶说“月亮是每个人的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                 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它并没有走”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-----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5003640" y="515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都觉得满足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250920" y="4829040"/>
            <a:ext cx="647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河中寻月、瞳中见月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原来月亮竟是这么多的”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------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7451640" y="15573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好奇心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Rectangle 12"/>
          <p:cNvSpPr/>
          <p:nvPr/>
        </p:nvSpPr>
        <p:spPr>
          <a:xfrm>
            <a:off x="7543800" y="251460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争强好胜之心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Rectangle 13"/>
          <p:cNvSpPr/>
          <p:nvPr/>
        </p:nvSpPr>
        <p:spPr>
          <a:xfrm>
            <a:off x="7315200" y="441972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纯洁美好的童心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2411280" y="981000"/>
            <a:ext cx="635184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亮是我所要的。”    弟弟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2771640" y="2205000"/>
            <a:ext cx="50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亮是个好。”    妹妹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916360" y="3357720"/>
            <a:ext cx="58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“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我突然觉得，我们有了月亮，那无边无际的天空也是我们的了，那月亮不是我们按在天空上的印章吗？”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33360" y="1916280"/>
            <a:ext cx="152100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亮是什么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611280" y="981000"/>
            <a:ext cx="813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理解       “月亮是我所要的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亮是个好”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900000" y="3141720"/>
            <a:ext cx="6986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月亮给人以美的享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月亮是一个美好的事物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月亮寄托着孩童纯真的愿望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179280" y="549000"/>
            <a:ext cx="812664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  “我突然觉得，我们有了月亮，那无边无际的天空也是我们的了，那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月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是我们按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天空中的印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539640" y="227664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印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条据或证明材料上盖上印章，表明自己对条据或材料负责；在个人字画书刊上盖上印章，表明属于自己所有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950760" y="2400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WordArt 5"/>
          <p:cNvSpPr txBox="1"/>
          <p:nvPr/>
        </p:nvSpPr>
        <p:spPr>
          <a:xfrm>
            <a:off x="755640" y="4005360"/>
            <a:ext cx="352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cc99ff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uFillTx/>
                <a:latin typeface="宋体"/>
              </a:rPr>
              <a:t>证明作用</a:t>
            </a:r>
            <a:endParaRPr b="1" i="1" lang="en-US" sz="2400" spc="1" strike="noStrike" u="sng">
              <a:ln w="9360">
                <a:solidFill>
                  <a:srgbClr val="cc99ff"/>
                </a:solidFill>
                <a:round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608" name="WordArt 6"/>
          <p:cNvSpPr txBox="1"/>
          <p:nvPr/>
        </p:nvSpPr>
        <p:spPr>
          <a:xfrm>
            <a:off x="2050920" y="5084640"/>
            <a:ext cx="626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9080">
                  <a:solidFill>
                    <a:srgbClr val="33cccc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宋体"/>
              </a:rPr>
              <a:t>我拥有月亮、我拥有天空、我拥有宇宙</a:t>
            </a:r>
            <a:endParaRPr b="1" i="1" lang="en-US" sz="2400" spc="1" strike="noStrike" u="sng">
              <a:ln w="19080">
                <a:solidFill>
                  <a:srgbClr val="33cccc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uFillTx/>
              <a:latin typeface="宋体"/>
              <a:ea typeface="宋体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为什么文章要以“月迹”为标题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599840"/>
            <a:ext cx="83808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2535120" y="1608120"/>
            <a:ext cx="340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亮的变化轨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2556000" y="2676600"/>
            <a:ext cx="609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亮在孩子心中留下的美好印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3773160" y="3827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切美的印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WordArt 7"/>
          <p:cNvSpPr txBox="1"/>
          <p:nvPr/>
        </p:nvSpPr>
        <p:spPr>
          <a:xfrm>
            <a:off x="4643280" y="4292640"/>
            <a:ext cx="2808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寻美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2843280" y="429264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ccccff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5400" spc="-1" strike="noStrike" u="sng">
                <a:solidFill>
                  <a:srgbClr val="ccccff"/>
                </a:solidFill>
                <a:uFillTx/>
                <a:latin typeface="Arial"/>
                <a:ea typeface="宋体"/>
              </a:rPr>
              <a:t>因初月如钩，故称银钩、玉钩。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11280" y="728640"/>
            <a:ext cx="82296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寻月过程　　　　寻月所见　　　      孩子的心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镜中看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院中望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杯中“饮月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河中寻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瞳见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沙滩议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3"/>
          <p:cNvSpPr/>
          <p:nvPr/>
        </p:nvSpPr>
        <p:spPr>
          <a:xfrm>
            <a:off x="539640" y="836640"/>
            <a:ext cx="216000" cy="5113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33200 h 5113440"/>
              <a:gd name="textAreaBottom" fmla="*/ 4980240 h 511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-135000" y="2205000"/>
            <a:ext cx="459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4320" y="234936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951b38"/>
                </a:solidFill>
                <a:uFillTx/>
                <a:latin typeface="Times New Roman"/>
                <a:ea typeface="黑体"/>
              </a:rPr>
              <a:t>月　　迹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2771640" y="1484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长腿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3708360" y="1484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圆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4211640" y="1484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亏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4859280" y="1484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消失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6516720" y="9079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6300720" y="1484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失望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4245480" y="227664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玉玉、银银、有桂树嫦娥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6372360" y="227664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争执</a:t>
            </a:r>
            <a:r>
              <a:rPr b="0" i="1" lang="zh-CN" sz="18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2771640" y="3068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一人一月，月亮在心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6230880" y="299736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人人拥有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9" name="Text Box 16"/>
          <p:cNvSpPr/>
          <p:nvPr/>
        </p:nvSpPr>
        <p:spPr>
          <a:xfrm>
            <a:off x="2843280" y="3860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哪一处水里都有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6156360" y="3860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处处都有</a:t>
            </a:r>
            <a:r>
              <a:rPr b="0" i="1" lang="zh-CN" sz="24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3419640" y="472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2700360" y="4724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哪个人眼瞳里都有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Text Box 20"/>
          <p:cNvSpPr/>
          <p:nvPr/>
        </p:nvSpPr>
        <p:spPr>
          <a:xfrm>
            <a:off x="6012000" y="4724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竟是这么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334800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5" name="Text Box 22"/>
          <p:cNvSpPr/>
          <p:nvPr/>
        </p:nvSpPr>
        <p:spPr>
          <a:xfrm>
            <a:off x="3266280" y="55166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月亮是我们的印章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Text Box 23"/>
          <p:cNvSpPr/>
          <p:nvPr/>
        </p:nvSpPr>
        <p:spPr>
          <a:xfrm>
            <a:off x="651672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满足</a:t>
            </a:r>
            <a:r>
              <a:rPr b="0" i="1" lang="zh-CN" sz="2400" spc="-1" strike="noStrike" u="sng">
                <a:solidFill>
                  <a:srgbClr val="e40702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AutoShape 24"/>
          <p:cNvSpPr/>
          <p:nvPr/>
        </p:nvSpPr>
        <p:spPr>
          <a:xfrm>
            <a:off x="7812000" y="1052640"/>
            <a:ext cx="216000" cy="4608360"/>
          </a:xfrm>
          <a:custGeom>
            <a:avLst/>
            <a:gdLst>
              <a:gd name="textAreaLeft" fmla="*/ 0 w 216000"/>
              <a:gd name="textAreaRight" fmla="*/ 78120 w 21600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Text Box 25"/>
          <p:cNvSpPr/>
          <p:nvPr/>
        </p:nvSpPr>
        <p:spPr>
          <a:xfrm>
            <a:off x="7617240" y="1989000"/>
            <a:ext cx="11552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650116"/>
                </a:solidFill>
                <a:uFillTx/>
                <a:latin typeface="Times New Roman"/>
                <a:ea typeface="宋体"/>
              </a:rPr>
              <a:t>童心升华之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9" name="Text Box 26"/>
          <p:cNvSpPr/>
          <p:nvPr/>
        </p:nvSpPr>
        <p:spPr>
          <a:xfrm>
            <a:off x="2556000" y="6021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追 求 美 的 过 程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WordArt 27"/>
          <p:cNvSpPr txBox="1"/>
          <p:nvPr/>
        </p:nvSpPr>
        <p:spPr>
          <a:xfrm>
            <a:off x="324000" y="115920"/>
            <a:ext cx="25336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 u="sng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方正舒体"/>
              </a:rPr>
              <a:t>课堂小结 </a:t>
            </a:r>
            <a:endParaRPr b="1" i="1" lang="en-US" sz="4000" spc="1" strike="noStrike" u="sng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方正舒体"/>
              <a:ea typeface="方正舒体"/>
            </a:endParaRPr>
          </a:p>
        </p:txBody>
      </p:sp>
    </p:spTree>
  </p:cSld>
  <p:transition spd="med">
    <p:strips dir="l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304920" y="533160"/>
            <a:ext cx="831672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奶奶是个什么样的人物形象？这个形象在文中有什么作用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解题思路：先看看奶奶做了哪些事情？对事情的发展有怎样的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457200" y="220968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“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奶奶的指引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”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：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奶奶突然说：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“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月亮进来了！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”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奶奶说：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“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它走了，</a:t>
            </a:r>
            <a:r>
              <a:rPr b="0" i="1" lang="en-US" sz="2800" spc="-1" strike="noStrike" u="sng">
                <a:solidFill>
                  <a:srgbClr val="ff0066"/>
                </a:solidFill>
                <a:uFillTx/>
                <a:latin typeface="黑体"/>
              </a:rPr>
              <a:t>------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你们快出去寻月吧。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”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奶奶从屋里端了一壶甜酒出来</a:t>
            </a:r>
            <a:r>
              <a:rPr b="0" i="1" lang="en-US" sz="2800" spc="-1" strike="noStrike" u="sng">
                <a:solidFill>
                  <a:srgbClr val="ff0066"/>
                </a:solidFill>
                <a:uFillTx/>
                <a:latin typeface="黑体"/>
              </a:rPr>
              <a:t>------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你们都有一个月亮哩！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奶奶说：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“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月亮是每一个人的，它并没走，你们再去找吧。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”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533520" y="52578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zh-CN" sz="32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奶奶是一个我们寻找美的过程中的引导者的形象</a:t>
            </a:r>
            <a:r>
              <a:rPr b="0" i="1" lang="en-US" sz="32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.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179280" y="5229360"/>
            <a:ext cx="87854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e407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ahoma"/>
                <a:ea typeface="黑体"/>
              </a:rPr>
              <a:t>没有奶奶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Tahoma"/>
                <a:ea typeface="黑体"/>
              </a:rPr>
              <a:t>这个形象，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ahoma"/>
                <a:ea typeface="黑体"/>
              </a:rPr>
              <a:t>就没有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Tahoma"/>
                <a:ea typeface="黑体"/>
              </a:rPr>
              <a:t>孩童的寻月、议月，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ahoma"/>
                <a:ea typeface="黑体"/>
              </a:rPr>
              <a:t>就没有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Tahoma"/>
                <a:ea typeface="黑体"/>
              </a:rPr>
              <a:t>孩童心灵的升华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1116000" y="1413000"/>
            <a:ext cx="6769080" cy="703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Tahoma"/>
                <a:ea typeface="华文中宋"/>
              </a:rPr>
              <a:t>  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Tahoma"/>
                <a:ea typeface="华文中宋"/>
              </a:rPr>
              <a:t>奶奶</a:t>
            </a: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Tahoma"/>
                <a:ea typeface="黑体"/>
              </a:rPr>
              <a:t>了解、爱护并有意于发展孩子的童心童真，自身对生活也充满了热情；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900000" y="2708280"/>
            <a:ext cx="71280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Tahoma"/>
                <a:ea typeface="华文中宋"/>
              </a:rPr>
              <a:t> 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Tahoma"/>
                <a:ea typeface="华文中宋"/>
              </a:rPr>
              <a:t>奶奶</a:t>
            </a: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Tahoma"/>
                <a:ea typeface="黑体"/>
              </a:rPr>
              <a:t>又是一个高明的教育家，注重引导孩子关注外界，探索自然；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684360" y="3933720"/>
            <a:ext cx="7559640" cy="1130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Tahoma"/>
                <a:ea typeface="宋体"/>
              </a:rPr>
              <a:t> 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Tahoma"/>
                <a:ea typeface="宋体"/>
              </a:rPr>
              <a:t>奶奶</a:t>
            </a: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Tahoma"/>
                <a:ea typeface="黑体"/>
              </a:rPr>
              <a:t>注重调解孩子之间的矛盾纠纷，并将他们的心灵带进新的高尚境地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1981080" y="152280"/>
            <a:ext cx="4191120" cy="1069200"/>
          </a:xfrm>
          <a:prstGeom prst="rect">
            <a:avLst/>
          </a:prstGeom>
          <a:noFill/>
          <a:ln w="9360">
            <a:solidFill>
              <a:srgbClr val="e407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话  说  奶  奶 </a:t>
            </a:r>
            <a:r>
              <a:rPr b="0" i="1" lang="en-US" sz="44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2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——</a:t>
            </a:r>
            <a:r>
              <a:rPr b="0" i="1" lang="zh-CN" sz="2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奶奶形象的重要作用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9" name="AutoShape 7"/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468000" y="1700280"/>
            <a:ext cx="63356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示例：第</a:t>
            </a:r>
            <a:r>
              <a:rPr b="1" lang="en-US" sz="3200" spc="-1" strike="noStrike">
                <a:solidFill>
                  <a:srgbClr val="ff505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（        ）写月亮的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（        ）写月光的白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（        ）写桂树的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（        ）写枝叶的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（        ）写花朵的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900000" y="2852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6666"/>
                </a:solidFill>
                <a:uFillTx/>
                <a:latin typeface="黑体"/>
              </a:rPr>
              <a:t> </a:t>
            </a:r>
            <a:r>
              <a:rPr b="0" i="1" lang="zh-CN" sz="3200" spc="-1" strike="noStrike" u="sng">
                <a:solidFill>
                  <a:srgbClr val="006666"/>
                </a:solidFill>
                <a:uFillTx/>
                <a:latin typeface="黑体"/>
                <a:ea typeface="黑体"/>
              </a:rPr>
              <a:t>玉玉</a:t>
            </a:r>
            <a:r>
              <a:rPr b="0" i="1" lang="en-US" sz="3200" spc="-1" strike="noStrike" u="sng">
                <a:solidFill>
                  <a:srgbClr val="006666"/>
                </a:solidFill>
                <a:uFillTx/>
                <a:latin typeface="黑体"/>
              </a:rPr>
              <a:t>/</a:t>
            </a:r>
            <a:r>
              <a:rPr b="0" i="1" lang="zh-CN" sz="3200" spc="-1" strike="noStrike" u="sng">
                <a:solidFill>
                  <a:srgbClr val="006666"/>
                </a:solidFill>
                <a:uFillTx/>
                <a:latin typeface="黑体"/>
                <a:ea typeface="黑体"/>
              </a:rPr>
              <a:t>银银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2" name="WordArt 4"/>
          <p:cNvSpPr txBox="1"/>
          <p:nvPr/>
        </p:nvSpPr>
        <p:spPr>
          <a:xfrm rot="20440800">
            <a:off x="3635280" y="4723920"/>
            <a:ext cx="468180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3366ff"/>
                  </a:solidFill>
                  <a:round/>
                </a:ln>
                <a:solidFill>
                  <a:srgbClr val="000000"/>
                </a:solidFill>
                <a:uFillTx/>
                <a:latin typeface="宋体"/>
              </a:rPr>
              <a:t>叠词的运用，使文章语言充满童趣</a:t>
            </a:r>
            <a:endParaRPr b="1" i="1" lang="en-US" sz="2400" spc="1" strike="noStrike" u="sng">
              <a:ln w="9360">
                <a:solidFill>
                  <a:srgbClr val="3366ff"/>
                </a:solidFill>
                <a:round/>
              </a:ln>
              <a:solidFill>
                <a:srgbClr val="000000"/>
              </a:solidFill>
              <a:uFillTx/>
              <a:latin typeface="宋体"/>
              <a:ea typeface="宋体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395280" y="40464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请从文中找出你认为最富有儿童特色的语言进行赏析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1476360" y="2276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66"/>
                </a:solidFill>
                <a:uFillTx/>
                <a:latin typeface="Arial"/>
                <a:ea typeface="黑体"/>
              </a:rPr>
              <a:t>满满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1476360" y="3429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66"/>
                </a:solidFill>
                <a:uFillTx/>
                <a:latin typeface="Arial"/>
                <a:ea typeface="黑体"/>
              </a:rPr>
              <a:t>粗粗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1476360" y="400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66"/>
                </a:solidFill>
                <a:uFillTx/>
                <a:latin typeface="Arial"/>
                <a:ea typeface="黑体"/>
              </a:rPr>
              <a:t>疏疏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1476360" y="465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66"/>
                </a:solidFill>
                <a:uFillTx/>
                <a:latin typeface="Arial"/>
                <a:ea typeface="黑体"/>
              </a:rPr>
              <a:t>累累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609480" y="11430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我们都看着那杯酒，果真里边就浮起一个小小的月亮的满圆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838080" y="32767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句中的动词“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浮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”用的非常生动，真切的写出了这时月亮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轻盈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的特点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0" name="Picture 4" descr="返回次2"/>
          <p:cNvPicPr/>
          <p:nvPr/>
        </p:nvPicPr>
        <p:blipFill>
          <a:blip r:embed="rId1"/>
          <a:stretch/>
        </p:blipFill>
        <p:spPr>
          <a:xfrm>
            <a:off x="6781680" y="5562720"/>
            <a:ext cx="1028880" cy="4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826920" y="69228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大家都喝下肚去，月亮就在每一个人的心里了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179280" y="2565360"/>
            <a:ext cx="89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这是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虚写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月亮当然不可能真的在每个人的心里，可见作者的表现手法十分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含蓄别致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它寄托了一个更为深层的含义：表达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人们追求美好理想的愿望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3" name="Picture 4" descr="返回次2"/>
          <p:cNvPicPr/>
          <p:nvPr/>
        </p:nvPicPr>
        <p:blipFill>
          <a:blip r:embed="rId1"/>
          <a:stretch/>
        </p:blipFill>
        <p:spPr>
          <a:xfrm>
            <a:off x="6781680" y="5791320"/>
            <a:ext cx="1028880" cy="4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1187280" y="189000"/>
            <a:ext cx="8136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“</a:t>
            </a: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有三妹漂亮吗？”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“</a:t>
            </a: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和三妹一样漂亮的。”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三妹就乐了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“</a:t>
            </a: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啊，啊！月亮是属于我的了。”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324000" y="373392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这个对话描写十分精彩，既写出了儿童特有的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天真烂漫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、活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泼可爱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的天性，又反映了人们对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美好事物的热爱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和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向往之情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6" name="Picture 4" descr="返回次2"/>
          <p:cNvPicPr/>
          <p:nvPr/>
        </p:nvPicPr>
        <p:blipFill>
          <a:blip r:embed="rId1"/>
          <a:stretch/>
        </p:blipFill>
        <p:spPr>
          <a:xfrm>
            <a:off x="7667640" y="6165720"/>
            <a:ext cx="1028520" cy="4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066680" y="6922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</a:t>
            </a:r>
            <a:r>
              <a:rPr b="0" i="1" lang="zh-CN" sz="40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我同意他们的话。正像奶奶说的那样：它是属于我们的，每一个人的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826920" y="2895480"/>
            <a:ext cx="747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这句话富有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哲理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说明人人都有追求美好事物的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权力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人人也都能够实现自己的美好</a:t>
            </a:r>
            <a:r>
              <a:rPr b="0" i="1" lang="zh-CN" sz="4400" spc="-1" strike="noStrike" u="sng">
                <a:solidFill>
                  <a:srgbClr val="b71a09"/>
                </a:solidFill>
                <a:uFillTx/>
                <a:latin typeface="Times New Roman"/>
                <a:ea typeface="宋体"/>
              </a:rPr>
              <a:t>理想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9" name="Picture 4" descr="返回次2"/>
          <p:cNvPicPr/>
          <p:nvPr/>
        </p:nvPicPr>
        <p:blipFill>
          <a:blip r:embed="rId1"/>
          <a:stretch/>
        </p:blipFill>
        <p:spPr>
          <a:xfrm>
            <a:off x="7308720" y="6165720"/>
            <a:ext cx="1028880" cy="4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34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"/>
          <p:cNvSpPr/>
          <p:nvPr/>
        </p:nvSpPr>
        <p:spPr>
          <a:xfrm>
            <a:off x="971640" y="62064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9d8ec"/>
                </a:solidFill>
                <a:uFillTx/>
                <a:latin typeface="Times New Roman"/>
                <a:ea typeface="华文新魏"/>
              </a:rPr>
              <a:t> </a:t>
            </a:r>
            <a:r>
              <a:rPr b="0" i="1" lang="en-US" sz="4000" spc="-1" strike="noStrike" u="sng">
                <a:solidFill>
                  <a:srgbClr val="d9d8ec"/>
                </a:solidFill>
                <a:uFillTx/>
                <a:latin typeface="Times New Roman"/>
                <a:ea typeface="华文新魏"/>
              </a:rPr>
              <a:t>“</a:t>
            </a: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Times New Roman"/>
                <a:ea typeface="华文新魏"/>
              </a:rPr>
              <a:t>月亮是个好”，妹妹说的这句话如何理解？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762120" y="2590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“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好”就是指美好的东西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——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月亮那么美丽和纯洁，给每个人都带来美的享受。 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762120" y="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Times New Roman"/>
                <a:ea typeface="华文新魏"/>
              </a:rPr>
              <a:t>理解“我突然觉得，我们有了月亮，那无边无际的天空也是我们的了，那月亮不是我们按在天空上的印章吗？”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0" y="1844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       </a:t>
            </a:r>
            <a:r>
              <a:rPr b="0" i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一轮圆月衬着无边无际的天空，像一枚小小的印章盖在书本上，既然月亮属于我们每一个人的，那无垠的天空也是属于我们的了。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       </a:t>
            </a:r>
            <a:r>
              <a:rPr b="0" i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</a:rPr>
              <a:t>月亮是美的，天空也是美的。无边无际的天空象征着世间所有美好的事物。我们每个人都可以寻找到生活中的美，对美的追求，应该是人生的座右铭，对于你们是如此，对于我们每个人都是如此。 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75" name="Picture 4" descr="返回主1"/>
          <p:cNvPicPr/>
          <p:nvPr/>
        </p:nvPicPr>
        <p:blipFill>
          <a:blip r:embed="rId1"/>
          <a:stretch/>
        </p:blipFill>
        <p:spPr>
          <a:xfrm>
            <a:off x="8001000" y="6172200"/>
            <a:ext cx="11430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5"/>
          <p:cNvSpPr/>
          <p:nvPr/>
        </p:nvSpPr>
        <p:spPr>
          <a:xfrm>
            <a:off x="1042920" y="47242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66"/>
                </a:solidFill>
                <a:uFillTx/>
                <a:latin typeface="Arial"/>
                <a:ea typeface="宋体"/>
              </a:rPr>
              <a:t>因弦月如弓，故称玉弓、弓月。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826920" y="1989000"/>
            <a:ext cx="7490160" cy="126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  <a:ea typeface="华文中宋"/>
              </a:rPr>
              <a:t>      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Tahoma"/>
                <a:ea typeface="华文中宋"/>
              </a:rPr>
              <a:t>本文通过一件小事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Tahoma"/>
                <a:ea typeface="华文中宋"/>
              </a:rPr>
              <a:t>---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Tahoma"/>
                <a:ea typeface="华文中宋"/>
              </a:rPr>
              <a:t>中秋节孩子们寻找月亮的情景，告诉人们一个道理 ， 一个简单平凡却又重要的道理： 生活中美好的东西是属于每个人的 ，只要我们努力去寻找，就能找到我们所需要的美好事物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7" name="WordArt 3"/>
          <p:cNvSpPr txBox="1"/>
          <p:nvPr/>
        </p:nvSpPr>
        <p:spPr>
          <a:xfrm>
            <a:off x="755640" y="620640"/>
            <a:ext cx="327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 u="sng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方正舒体"/>
              </a:rPr>
              <a:t>小结 </a:t>
            </a:r>
            <a:endParaRPr b="1" i="1" lang="en-US" sz="4400" spc="1" strike="noStrike" u="sng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方正舒体"/>
              <a:ea typeface="方正舒体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5"/>
          <p:cNvSpPr/>
          <p:nvPr/>
        </p:nvSpPr>
        <p:spPr>
          <a:xfrm>
            <a:off x="0" y="328464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ccccff"/>
                </a:solidFill>
                <a:uFillTx/>
                <a:latin typeface="Arial"/>
                <a:ea typeface="宋体"/>
              </a:rPr>
              <a:t>因满月如轮如盘如镜，故称金轮、玉轮、银盘、玉盘、金镜、玉镜。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0" y="159984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因传说月中有兔和蟾蜍，故称银兔、玉兔、金蟾、银蟾、蟾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因传说月中有桂树，故称桂月、桂轮、桂宫、桂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月夜"/>
          <p:cNvPicPr/>
          <p:nvPr/>
        </p:nvPicPr>
        <p:blipFill>
          <a:blip r:embed="rId1"/>
          <a:srcRect l="0" t="0" r="0" b="-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WordArt 3"/>
          <p:cNvSpPr txBox="1"/>
          <p:nvPr/>
        </p:nvSpPr>
        <p:spPr>
          <a:xfrm>
            <a:off x="3708360" y="1844640"/>
            <a:ext cx="4824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uFillTx/>
                <a:latin typeface="宋体"/>
              </a:rPr>
              <a:t>月迹</a:t>
            </a:r>
            <a:endParaRPr b="1" i="1" lang="en-US" sz="2400" spc="1" strike="noStrike" u="sng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5076720" y="45086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贾平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1599840"/>
            <a:ext cx="815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了解作者、掌握字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体会文中所表现的童真童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体味文中生动形象的语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贾平凹"/>
          <p:cNvPicPr/>
          <p:nvPr/>
        </p:nvPicPr>
        <p:blipFill>
          <a:blip r:embed="rId1"/>
          <a:srcRect l="0" t="0" r="105" b="142"/>
          <a:stretch/>
        </p:blipFill>
        <p:spPr>
          <a:xfrm>
            <a:off x="6084720" y="0"/>
            <a:ext cx="3059280" cy="27082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e54323"/>
                </a:solidFill>
                <a:latin typeface="黑体"/>
                <a:ea typeface="黑体"/>
              </a:rPr>
              <a:t>贾平凹</a:t>
            </a:r>
            <a:r>
              <a:rPr b="0" lang="zh-CN" sz="2500" spc="-1" strike="noStrike">
                <a:solidFill>
                  <a:srgbClr val="e54323"/>
                </a:solidFill>
                <a:latin typeface="黑体"/>
                <a:ea typeface="黑体"/>
              </a:rPr>
              <a:t> （</a:t>
            </a:r>
            <a:r>
              <a:rPr b="0" lang="en-US" sz="2500" spc="-1" strike="noStrike">
                <a:solidFill>
                  <a:srgbClr val="e54323"/>
                </a:solidFill>
                <a:latin typeface="黑体"/>
                <a:ea typeface="黑体"/>
              </a:rPr>
              <a:t>1952----</a:t>
            </a:r>
            <a:r>
              <a:rPr b="0" lang="zh-CN" sz="2500" spc="-1" strike="noStrike">
                <a:solidFill>
                  <a:srgbClr val="e54323"/>
                </a:solidFill>
                <a:latin typeface="黑体"/>
                <a:ea typeface="黑体"/>
              </a:rPr>
              <a:t>）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当代作家，原名贾平娃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3000" spc="-1" strike="noStrike">
                <a:solidFill>
                  <a:srgbClr val="e54323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04920" y="3048120"/>
            <a:ext cx="867564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长篇小说</a:t>
            </a:r>
            <a:r>
              <a:rPr b="0" i="1" lang="en-US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《</a:t>
            </a:r>
            <a:r>
              <a:rPr b="0" i="1" lang="zh-CN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浮躁</a:t>
            </a:r>
            <a:r>
              <a:rPr b="0" i="1" lang="en-US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》《</a:t>
            </a:r>
            <a:r>
              <a:rPr b="0" i="1" lang="zh-CN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白夜</a:t>
            </a:r>
            <a:r>
              <a:rPr b="0" i="1" lang="en-US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》《</a:t>
            </a:r>
            <a:r>
              <a:rPr b="0" i="1" lang="zh-CN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废都</a:t>
            </a:r>
            <a:r>
              <a:rPr b="0" i="1" lang="en-US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》</a:t>
            </a:r>
            <a:r>
              <a:rPr b="0" i="1" lang="zh-CN" sz="3200" spc="-1" strike="noStrike" u="sng">
                <a:solidFill>
                  <a:srgbClr val="510ff5"/>
                </a:solidFill>
                <a:uFillTx/>
                <a:latin typeface="Arial"/>
                <a:ea typeface="宋体"/>
              </a:rPr>
              <a:t>；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散文集</a:t>
            </a: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《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月迹</a:t>
            </a: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》《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心迹</a:t>
            </a: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》《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爱的踪迹</a:t>
            </a: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》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；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小说集</a:t>
            </a:r>
            <a:r>
              <a:rPr b="0" i="1" lang="en-US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《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商州散记</a:t>
            </a:r>
            <a:r>
              <a:rPr b="0" i="1" lang="en-US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》《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天狗</a:t>
            </a:r>
            <a:r>
              <a:rPr b="0" i="1" lang="en-US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》 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；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自传体长篇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《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我是农民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》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等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762120" y="38088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走近作者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762120" y="10666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66cc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茅盾文学奖授奖词这样评价贾平凹的写作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66cc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3600" spc="-1" strike="noStrike" u="sng">
                <a:solidFill>
                  <a:srgbClr val="0066cc"/>
                </a:solidFill>
                <a:uFillTx/>
                <a:latin typeface="Arial"/>
                <a:ea typeface="黑体"/>
              </a:rPr>
              <a:t>他的语言极具个性化色彩，淡化抒情，朴拙空灵，内心却波澜万丈。他以精微的叙事，绵密的细节，成功地仿写了一种日常生活的本真状态，并作了充满赤子情怀的记述和解读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6:37:01Z</dcterms:created>
  <dc:creator/>
  <dc:description/>
  <dc:language>en-US</dc:language>
  <cp:lastModifiedBy>万润仪器贸易公司</cp:lastModifiedBy>
  <dcterms:modified xsi:type="dcterms:W3CDTF">2020-08-24T06:37:05Z</dcterms:modified>
  <cp:revision>23</cp:revision>
  <dc:subject/>
  <dc:title>赏月话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